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28.png" ContentType="image/png"/>
  <Override PartName="/ppt/media/image5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9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F123-B290-4D8E-8C37-971DB3231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9810-02AE-4225-9805-CAA859014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65D0-822B-408B-8617-9650801F0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2C94-BF47-4B08-A205-09F599F5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2BD1-2012-4A82-B9A3-331298BDD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AFB-1105-4002-B77B-9D1B3F50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AB2-D85D-4A82-88EF-1AC781BD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9F1-66D2-44A3-BCF9-D7505098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585-9DE7-4222-AB3D-74C6670C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6906-FE13-41F2-ADC1-520C20BE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7BD3-A630-4C03-A2D3-4E71618E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5C5B-D462-417D-B83B-077813DA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45A6-6D4C-40C7-BC34-0F83AFB6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05DA-C6AF-4AFC-B422-1E6A72C3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3666-1035-4BE5-B240-30CC0135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7ABE-FEED-4D15-839B-965D751F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C9F-6DD6-413D-A7BC-7E913831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81A4-8B14-439E-B635-BFEEF46A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99E7-8682-41E1-AE4A-21ACE51A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A386-A016-4237-BD8C-8DD896AB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7E70-984B-4403-BAC0-1AB0BC8E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466B-54C9-4647-B642-F2126A43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5C7D-4472-48DC-B23A-421A0693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A51F-72D0-4413-95FD-CE03D52E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0382-A1B2-4989-B94F-787E3959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2C35-2623-4F00-AC82-70397413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239D-235F-4636-B2DA-464F1B6A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9A4-C794-4F82-8283-23B65298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3556-6CA7-470B-BA9F-C0974D90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4A82C-3962-489A-AFF9-EDE1DE9A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A5BF-2C1E-468E-84D6-375A2332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C9B2-3D9C-4A6B-956E-AB98E6E9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2EA1-AC32-4534-A52D-15BB340C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E795-AFD8-4ACD-B28D-C979B366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A8DE-AABD-49DC-B5C1-C051A864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669F0-486B-4999-9F5A-BF39E085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724CC-6FF0-466E-85BE-566E26F6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5CF4B-4A3B-45DF-BA8D-06B965E9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377-0FF7-4756-9574-C79DED63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67E4A-322A-452E-AB2B-187508CB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9EAD3-2E87-4875-A755-1D2228B2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03F01-0629-43FA-8501-28DB9592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D3811-90CF-411D-9403-584245D5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14BA0-5AB8-46B0-8CE7-759B3286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FCD54-8EE4-463A-8AE7-F347787D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C7D3A-FDBC-4FBD-B851-87EDFE32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28675-21F2-425D-96C2-70A84703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D791A-3139-4C08-B700-5ABC4050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975FE-997D-4E3E-87A0-8CA46C54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637-91AB-4E93-B7E4-C8AE0E35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5F536-294C-4325-81D4-1F21A3A0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5B1B4-F6D3-4876-95CC-1F24E3C4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306C-B5E4-4F1F-8ACA-5A4BD099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99C5C-B9C2-40E2-A5F4-09C79FD9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9661F-047E-40D6-9380-4574C108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CD8D0-51C0-418C-B37C-2DF16802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EC61C-50AE-42DE-8750-5BD864EA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EB260-E249-40CB-9D78-CD908B91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8859-4CC1-4E9B-9310-5E8C322B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27D6B-5433-4E57-87C3-092161B5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63A-9456-4D0B-8690-439238D4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985ED-E83B-4466-8294-26C4E2B6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CB1-9438-4FA2-983A-6FD92164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180-9281-4FF2-9776-C96C3749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A69-DC8D-456C-B321-E4604DA8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2759-F11E-4BD4-85AB-0FD959D89B0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FCDD-0C0D-4634-BA99-108AC3C6CD5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0A56-72B9-4034-A4EA-F8BB881C291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2A4F-06A4-4688-869B-464CF1F3A85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DE39-EDED-4115-A2A5-7F64CB9814B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google.rs/url?sa=i&amp;rct=j&amp;q=&amp;esrc=s&amp;frm=1&amp;source=images&amp;cd=&amp;cad=rja&amp;docid=3-yFUt-5FyOTJM&amp;tbnid=oDH0z1crvTC_5M:&amp;ved=0CAUQjRw&amp;url=http%3A%2F%2Fnext-thing.net%2F5-freakiest-guiness-book-record-holders%2F&amp;ei=JPB7UsSoGoPJtAaGpoDwDA&amp;bvm=bv.56146854,d.Yms&amp;psig=AFQjCNHy19xmPbYuCoiOpkaNl1OHrysLWw&amp;ust=1383940253663682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google.rs/url?sa=i&amp;rct=j&amp;q=&amp;esrc=s&amp;frm=1&amp;source=images&amp;cd=&amp;cad=rja&amp;docid=7CUwjuj2n_eqqM&amp;tbnid=55YlMmgRy-FgVM:&amp;ved=0CAUQjRw&amp;url=http%3A%2F%2Fwww.themedschoolproject.com%2F2012%2F04%2Fdoes-inbreeding-give-you-six-fingers.html&amp;ei=ivB7Upv4MMndswag5YGgBg&amp;bvm=bv.56146854,d.Yms&amp;psig=AFQjCNHkY-Dgf-yi5-T7z-XR2bqv3yBkyQ&amp;ust=1383940565432828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ff"/>
                </a:solidFill>
                <a:latin typeface="Arial"/>
              </a:rPr>
              <a:t>ТИПОВИ НАСЛЕЂИВАЊА КОД ЧОВЕК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://image.slidesharecdn.com/mehanizminasledjivanja3a-101209034803-phpapp01/95/slide-70-728.jpg?1291888820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276" name="Rounded Rectangle 4"/>
          <p:cNvSpPr/>
          <p:nvPr/>
        </p:nvSpPr>
        <p:spPr>
          <a:xfrm>
            <a:off x="2819520" y="6553080"/>
            <a:ext cx="4114800" cy="304920"/>
          </a:xfrm>
          <a:prstGeom prst="roundRect">
            <a:avLst>
              <a:gd name="adj" fmla="val 16667"/>
            </a:avLst>
          </a:prstGeom>
          <a:solidFill>
            <a:srgbClr val="fcd8b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:   27:9:9:9:3:3:3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е ме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у геним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ови наслеђивања код људи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08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ногенско наслеђивање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ина се налази под контролом једног гена (интеракција међу алелним геним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Полигенско наслеђивање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ина се налази под контролом већег броја гена (интеракције међу неалелним геним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Моногенско наслеђивањ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слеђивање везано з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аутозом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ромозо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полн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е (за Х и 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слеђивање везано за аутозомне и полни Х хромозом може да буд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доминантн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- рецесив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слеђивање везано за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Y хромозом – холандрич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слеђивањ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слеђивање везано за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митохонријалну ДНК</a:t>
            </a:r>
            <a:r>
              <a:rPr b="0" lang="sr-C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–матроклино</a:t>
            </a:r>
            <a:r>
              <a:rPr b="0" lang="sr-C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(материнско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слеђивањ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а међу алелним генима - </a:t>
            </a:r>
            <a:r>
              <a:rPr b="1" lang="sr-CS" sz="3200" spc="-1" strike="noStrike">
                <a:solidFill>
                  <a:srgbClr val="c00000"/>
                </a:solidFill>
                <a:latin typeface="Arial"/>
                <a:ea typeface="Arial"/>
              </a:rPr>
              <a:t>доминантност и рецесивнос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52280" y="20570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Аутозомно доминантно наслеђивањ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(АД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оље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оминантни хомозигот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етерозиго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ј. довољна је мутација гена само на једном хромозом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обе са генотипом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А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А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су оболел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обе са генотипом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а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су здраве особ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јна нормална и патолошка својства се наслеђују аутозомно доминантно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1980720"/>
            <a:ext cx="4495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Патолошк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об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брахидакти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синдактил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дакти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јувенилна катарак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амилијар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холестеролемиј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ахондроплаз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-360" y="2438280"/>
            <a:ext cx="4724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ормал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соб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одвојеност ушне рес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пособност увртања јез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ећање ПТ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рупица у бра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MGA2-05-14"/>
          <p:cNvPicPr/>
          <p:nvPr/>
        </p:nvPicPr>
        <p:blipFill>
          <a:blip r:embed="rId1"/>
          <a:stretch/>
        </p:blipFill>
        <p:spPr>
          <a:xfrm>
            <a:off x="76320" y="2133720"/>
            <a:ext cx="5349600" cy="3962160"/>
          </a:xfrm>
          <a:prstGeom prst="rect">
            <a:avLst/>
          </a:prstGeom>
          <a:ln w="0">
            <a:noFill/>
          </a:ln>
        </p:spPr>
      </p:pic>
      <p:sp>
        <p:nvSpPr>
          <p:cNvPr id="288" name="Rounded Rectangle 2"/>
          <p:cNvSpPr/>
          <p:nvPr/>
        </p:nvSpPr>
        <p:spPr>
          <a:xfrm>
            <a:off x="685800" y="762120"/>
            <a:ext cx="71629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ословно стабло и карактеристике  АД наслеђ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3"/>
          <p:cNvSpPr/>
          <p:nvPr/>
        </p:nvSpPr>
        <p:spPr>
          <a:xfrm>
            <a:off x="5486400" y="1523880"/>
            <a:ext cx="3657600" cy="518184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5181840"/>
              <a:gd name="textAreaBottom" fmla="*/ 5003280 h 5181840"/>
            </a:gdLst>
            <a:ahLst/>
            <a:rect l="textAreaLeft" t="textAreaTop" r="textAreaRight" b="textAreaBottom"/>
            <a:pathLst>
              <a:path w="21600" h="30601">
                <a:moveTo>
                  <a:pt x="3600" y="0"/>
                </a:moveTo>
                <a:arcTo wR="3600" hR="3600" stAng="16200000" swAng="-5400000"/>
                <a:lnTo>
                  <a:pt x="0" y="27001"/>
                </a:lnTo>
                <a:arcTo wR="3600" hR="3600" stAng="10800000" swAng="-5400000"/>
                <a:lnTo>
                  <a:pt x="18000" y="306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дједнако често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ле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ушкарци и же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ос  оболелих међу половима је 1:1 или 2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свакој генерацији има оболел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мушкарци и жене могу да пренесу болест својим потомц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раве особе (аа) 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носе болест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рахидактил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лидактил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линодактилиј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Picture 4" descr="polidaktilija"/>
          <p:cNvPicPr/>
          <p:nvPr/>
        </p:nvPicPr>
        <p:blipFill>
          <a:blip r:embed="rId1"/>
          <a:stretch/>
        </p:blipFill>
        <p:spPr>
          <a:xfrm>
            <a:off x="533520" y="2057400"/>
            <a:ext cx="7229520" cy="20574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5"/>
          <p:cNvSpPr/>
          <p:nvPr/>
        </p:nvSpPr>
        <p:spPr>
          <a:xfrm>
            <a:off x="4498200" y="327672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clinodactyly1"/>
          <p:cNvPicPr/>
          <p:nvPr/>
        </p:nvPicPr>
        <p:blipFill>
          <a:blip r:embed="rId2"/>
          <a:stretch/>
        </p:blipFill>
        <p:spPr>
          <a:xfrm>
            <a:off x="2057400" y="4191120"/>
            <a:ext cx="43434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6" descr="https://encrypted-tbn3.gstatic.com/images?q=tbn:ANd9GcTi6naIF0TUr3CYyDmRoIqxza-YMwypIa948vFfUziTw7tAosOC"/>
          <p:cNvPicPr/>
          <p:nvPr/>
        </p:nvPicPr>
        <p:blipFill>
          <a:blip r:embed="rId1"/>
          <a:stretch/>
        </p:blipFill>
        <p:spPr>
          <a:xfrm>
            <a:off x="762120" y="83808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http://s56790.gridserver.com/wp-content/uploads/unsorted/finger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838080"/>
            <a:ext cx="3605040" cy="5791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http://www.pxleyes.com/images/contests/world-records/fullsize/Seven-Fingers-in-one-hand-4d9a6501612c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2971800"/>
            <a:ext cx="26762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хондроплазиј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Picture 6" descr="achondroplasia-1"/>
          <p:cNvPicPr/>
          <p:nvPr/>
        </p:nvPicPr>
        <p:blipFill>
          <a:blip r:embed="rId1"/>
          <a:stretch/>
        </p:blipFill>
        <p:spPr>
          <a:xfrm>
            <a:off x="304920" y="2276640"/>
            <a:ext cx="3120840" cy="3819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Achondroplasia"/>
          <p:cNvPicPr/>
          <p:nvPr/>
        </p:nvPicPr>
        <p:blipFill>
          <a:blip r:embed="rId2"/>
          <a:srcRect l="7992" t="0" r="5354" b="0"/>
          <a:stretch/>
        </p:blipFill>
        <p:spPr>
          <a:xfrm>
            <a:off x="3581280" y="2286000"/>
            <a:ext cx="4953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нохибридно, дихибридно, полихибридно наслеђивањ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1866.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Грегор Мендел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авио Теорију партикуларног наслеђивања и у оквиру њ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ва основна прави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слеђивањ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правило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стављ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следних факто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правило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ободног комбинов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следних факто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милијарна хиперхолестеролемиј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981080"/>
            <a:ext cx="4952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ртерос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ротичне  промене на крвним судов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Ксантелаз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 очним капц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слаге холестерола на тетивама мишића 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сант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за рецептор за LD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липопротеин мале густин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се налази на хромозому 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2" descr="http://www.poliderma.hr/var/poliderma/storage/images/usluge/uklanjanje_dobrocudnih_promjena/ksantelazma/xanthelasmata/22286-1-cro-HR/xanthelasmata.jpg"/>
          <p:cNvPicPr/>
          <p:nvPr/>
        </p:nvPicPr>
        <p:blipFill>
          <a:blip r:embed="rId1"/>
          <a:stretch/>
        </p:blipFill>
        <p:spPr>
          <a:xfrm>
            <a:off x="5334120" y="1619280"/>
            <a:ext cx="3581280" cy="2266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Ð¡ÑÐ¾Ð´Ð½Ð° ÑÐ»Ð¸ÐºÐ°"/>
          <p:cNvPicPr/>
          <p:nvPr/>
        </p:nvPicPr>
        <p:blipFill>
          <a:blip r:embed="rId2"/>
          <a:srcRect l="12903" t="3030" r="55130" b="63611"/>
          <a:stretch/>
        </p:blipFill>
        <p:spPr>
          <a:xfrm>
            <a:off x="5257800" y="4137120"/>
            <a:ext cx="365760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, 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,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1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aa, a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50%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оболелих потома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 x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, 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, a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, a x A,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1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ви су болесни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          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75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%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болесни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Rounded Rectangle 2"/>
          <p:cNvSpPr/>
          <p:nvPr/>
        </p:nvSpPr>
        <p:spPr>
          <a:xfrm>
            <a:off x="228600" y="91440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Генетички ризици  у АД наслеђивањ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228240" y="6091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Потпуна доминантност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ако хетерозигот одговара мутантном хомозиготу у односу на својство које посматрам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Делимична доминантнос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ада је хетерозигот интермедијаран, између два хомозигота у односу на својство које посматрам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мед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но насл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вање и кодоминантnост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а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нтермедијерно насле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ђ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вање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за брахидактилију у једној доз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Аа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зрокује поремећај у развићу скелета, а у дуплој до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А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хомозиготно стање) је лета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а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доминантно насле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ђ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вање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B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рвна груп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Д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болести показују различиту </a:t>
            </a:r>
            <a:r>
              <a:rPr b="1" lang="sr-Latn-CS" sz="3200" spc="-1" strike="noStrike">
                <a:solidFill>
                  <a:srgbClr val="c00000"/>
                </a:solidFill>
                <a:latin typeface="Arial"/>
                <a:ea typeface="Arial"/>
              </a:rPr>
              <a:t>пенетрабилност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Latn-CS" sz="3200" spc="-1" strike="noStrike">
                <a:solidFill>
                  <a:srgbClr val="c00000"/>
                </a:solidFill>
                <a:latin typeface="Arial"/>
                <a:ea typeface="Arial"/>
              </a:rPr>
              <a:t>ек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сп</a:t>
            </a:r>
            <a:r>
              <a:rPr b="1" lang="sr-Latn-CS" sz="3200" spc="-1" strike="noStrike">
                <a:solidFill>
                  <a:srgbClr val="c00000"/>
                </a:solidFill>
                <a:latin typeface="Arial"/>
                <a:ea typeface="Arial"/>
              </a:rPr>
              <a:t>ресивнос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8288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Пенетрабилнос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бој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понекад 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енотипска својств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испоља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ако знамо да особа носи мутирани 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Експресивнос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ражај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у различитом степену су израже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енотипске особин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лидактилиј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2" descr="http://mhanswers-auth.mhhe.com/sites/default/files/images/fig-4.21.JPG"/>
          <p:cNvPicPr/>
          <p:nvPr/>
        </p:nvPicPr>
        <p:blipFill>
          <a:blip r:embed="rId1"/>
          <a:srcRect l="-663" t="0" r="0" b="30995"/>
          <a:stretch/>
        </p:blipFill>
        <p:spPr>
          <a:xfrm>
            <a:off x="2265480" y="4800600"/>
            <a:ext cx="40590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3200" spc="-1" strike="noStrike">
                <a:solidFill>
                  <a:srgbClr val="c00000"/>
                </a:solidFill>
                <a:latin typeface="Arial"/>
                <a:ea typeface="Arial"/>
              </a:rPr>
              <a:t>Аутозомно рецесивно наслеђивањ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(АР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240" y="228564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које се нас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ју на овај начин испољавају се само када је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особа хомозиготна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(аа)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за мутирани г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обе са генотипом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у здраве особ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обе са генотипом аа су оболел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ројна нормал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то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ка стања се нас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утозомно рецесивно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266720" y="2666520"/>
            <a:ext cx="4876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Патолошке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об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ноћно слеп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неки облици глувонем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анемија српастих ће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метаболички 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28600" y="266688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Нормалне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об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срасла ушна рес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број прст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неосетљивост ПТ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5" descr="sa_0"/>
          <p:cNvPicPr/>
          <p:nvPr/>
        </p:nvPicPr>
        <p:blipFill>
          <a:blip r:embed="rId1">
            <a:grayscl/>
          </a:blip>
          <a:srcRect l="7173" t="0" r="6797" b="31856"/>
          <a:stretch/>
        </p:blipFill>
        <p:spPr>
          <a:xfrm>
            <a:off x="914400" y="2209680"/>
            <a:ext cx="3657600" cy="2667240"/>
          </a:xfrm>
          <a:prstGeom prst="rect">
            <a:avLst/>
          </a:prstGeom>
          <a:ln w="0">
            <a:noFill/>
          </a:ln>
        </p:spPr>
      </p:pic>
      <p:sp>
        <p:nvSpPr>
          <p:cNvPr id="316" name="Rounded Rectangle 2"/>
          <p:cNvSpPr/>
          <p:nvPr/>
        </p:nvSpPr>
        <p:spPr>
          <a:xfrm>
            <a:off x="685800" y="914400"/>
            <a:ext cx="68580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ословно стабло и карактеристике АР наслеђ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ounded Rectangle 3"/>
          <p:cNvSpPr/>
          <p:nvPr/>
        </p:nvSpPr>
        <p:spPr>
          <a:xfrm>
            <a:off x="4952880" y="1752480"/>
            <a:ext cx="3353040" cy="5105520"/>
          </a:xfrm>
          <a:custGeom>
            <a:avLst/>
            <a:gdLst>
              <a:gd name="textAreaLeft" fmla="*/ 163440 w 3353040"/>
              <a:gd name="textAreaRight" fmla="*/ 3189600 w 3353040"/>
              <a:gd name="textAreaTop" fmla="*/ 163440 h 5105520"/>
              <a:gd name="textAreaBottom" fmla="*/ 4942080 h 5105520"/>
            </a:gdLst>
            <a:ahLst/>
            <a:rect l="textAreaLeft" t="textAreaTop" r="textAreaRight" b="textAreaBottom"/>
            <a:pathLst>
              <a:path w="21600" h="32888">
                <a:moveTo>
                  <a:pt x="3600" y="0"/>
                </a:moveTo>
                <a:arcTo wR="3600" hR="3600" stAng="16200000" swAng="-5400000"/>
                <a:lnTo>
                  <a:pt x="0" y="29288"/>
                </a:lnTo>
                <a:arcTo wR="3600" hR="3600" stAng="10800000" swAng="-5400000"/>
                <a:lnTo>
                  <a:pt x="18000" y="328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једнако често су болесни мушкарци и жене, однос  полова међу оболелима је 1:1 или 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ест “прескаче” генерациј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изонтално преношење у родословном стаб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јчешће су родитељи здрави и рађају болесно д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мушк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 и жене могу да преносе бол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0456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Здрави носиоц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утираног ген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А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мају 25% ризика за добијање болесног потомств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    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x  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1   АА, Аа, Аа,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аа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br>
              <a:rPr sz="2400"/>
            </a:b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25% болес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 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P    AA 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1  Аа, Аа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аа, а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F1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Aa, Aa, Aa, A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50%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болесно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            сви су здрав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ounded Rectangle 3"/>
          <p:cNvSpPr/>
          <p:nvPr/>
        </p:nvSpPr>
        <p:spPr>
          <a:xfrm>
            <a:off x="762120" y="990720"/>
            <a:ext cx="70102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нетички ризици у АР наслеђив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етаболизма</a:t>
            </a:r>
            <a:r>
              <a:rPr b="0" lang="sr-CS" sz="2800" spc="-1" strike="noStrike">
                <a:solidFill>
                  <a:srgbClr val="008cca"/>
                </a:solidFill>
                <a:latin typeface="Arial"/>
                <a:ea typeface="Arial"/>
              </a:rPr>
              <a:t>: 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и путеви фенилаланин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152280" y="2057400"/>
            <a:ext cx="9524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 хране се разлаж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енилаланин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2400" spc="-1" strike="noStrike">
                <a:solidFill>
                  <a:srgbClr val="59aaf2"/>
                </a:solidFill>
                <a:latin typeface="Arial"/>
                <a:ea typeface="Arial"/>
              </a:rPr>
              <a:t>A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розин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лани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  <a:ea typeface="Arial"/>
              </a:rPr>
              <a:t>(bb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Latn-CS" sz="2400" spc="-1" strike="noStrike">
                <a:solidFill>
                  <a:srgbClr val="00b050"/>
                </a:solidFill>
                <a:latin typeface="Arial"/>
                <a:ea typeface="Arial"/>
              </a:rPr>
              <a:t>C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енилпир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        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капт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рокси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сел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sr-Latn-CS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D (dd)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јодтирони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59aaf2"/>
                </a:solidFill>
                <a:latin typeface="Times New Roman"/>
                <a:ea typeface="Times New Roman"/>
              </a:rPr>
              <a:t>  </a:t>
            </a:r>
            <a:r>
              <a:rPr b="1" lang="sr-Latn-RS" sz="2400" spc="-1" strike="noStrike">
                <a:solidFill>
                  <a:srgbClr val="59aaf2"/>
                </a:solidFill>
                <a:latin typeface="Times New Roman"/>
                <a:ea typeface="Times New Roman"/>
              </a:rPr>
              <a:t>            </a:t>
            </a:r>
            <a:r>
              <a:rPr b="1" lang="sr-Latn-CS" sz="2400" spc="-1" strike="noStrike">
                <a:solidFill>
                  <a:srgbClr val="59aaf2"/>
                </a:solidFill>
                <a:latin typeface="Arial"/>
                <a:ea typeface="Arial"/>
              </a:rPr>
              <a:t>(aa)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етосирћетна ки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      </a:t>
            </a:r>
            <a:r>
              <a:rPr b="1" lang="sr-Latn-CS" sz="2400" spc="-1" strike="noStrike">
                <a:solidFill>
                  <a:srgbClr val="00b050"/>
                </a:solidFill>
                <a:latin typeface="Arial"/>
                <a:ea typeface="Arial"/>
              </a:rPr>
              <a:t>(cc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59aaf2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59aaf2"/>
                </a:solidFill>
                <a:latin typeface="Arial"/>
                <a:ea typeface="Arial"/>
              </a:rPr>
              <a:t>Фенилкетонур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лкаптонур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000" spc="-1" strike="noStrike">
                <a:solidFill>
                  <a:srgbClr val="00b050"/>
                </a:solidFill>
                <a:latin typeface="Arial"/>
                <a:ea typeface="Arial"/>
              </a:rPr>
              <a:t>хипотироидни кретени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a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  <a:ea typeface="Arial"/>
              </a:rPr>
              <a:t>лбиниз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22" name="Straight Arrow Connector 4"/>
          <p:cNvCxnSpPr/>
          <p:nvPr/>
        </p:nvCxnSpPr>
        <p:spPr>
          <a:xfrm>
            <a:off x="3809520" y="4495320"/>
            <a:ext cx="108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3" name="Straight Arrow Connector 6"/>
          <p:cNvCxnSpPr/>
          <p:nvPr/>
        </p:nvCxnSpPr>
        <p:spPr>
          <a:xfrm>
            <a:off x="4648320" y="2819160"/>
            <a:ext cx="381600" cy="153000"/>
          </a:xfrm>
          <a:prstGeom prst="straightConnector1">
            <a:avLst/>
          </a:prstGeom>
          <a:ln w="9360">
            <a:solidFill>
              <a:srgbClr val="10cf9b"/>
            </a:solidFill>
            <a:miter/>
            <a:tailEnd len="med" type="arrow" w="med"/>
          </a:ln>
        </p:spPr>
      </p:cxnSp>
      <p:cxnSp>
        <p:nvCxnSpPr>
          <p:cNvPr id="324" name="Straight Arrow Connector 8"/>
          <p:cNvCxnSpPr/>
          <p:nvPr/>
        </p:nvCxnSpPr>
        <p:spPr>
          <a:xfrm>
            <a:off x="5409720" y="3124080"/>
            <a:ext cx="229320" cy="153360"/>
          </a:xfrm>
          <a:prstGeom prst="straightConnector1">
            <a:avLst/>
          </a:prstGeom>
          <a:ln w="9360">
            <a:solidFill>
              <a:srgbClr val="10cf9b"/>
            </a:solidFill>
            <a:miter/>
            <a:tailEnd len="med" type="arrow" w="med"/>
          </a:ln>
        </p:spPr>
      </p:cxnSp>
      <p:cxnSp>
        <p:nvCxnSpPr>
          <p:cNvPr id="325" name="Straight Arrow Connector 10"/>
          <p:cNvCxnSpPr/>
          <p:nvPr/>
        </p:nvCxnSpPr>
        <p:spPr>
          <a:xfrm>
            <a:off x="4800600" y="2666520"/>
            <a:ext cx="534240" cy="108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26" name="Straight Arrow Connector 12"/>
          <p:cNvCxnSpPr/>
          <p:nvPr/>
        </p:nvCxnSpPr>
        <p:spPr>
          <a:xfrm>
            <a:off x="5715000" y="2666520"/>
            <a:ext cx="457920" cy="108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27" name="Straight Arrow Connector 14"/>
          <p:cNvCxnSpPr/>
          <p:nvPr/>
        </p:nvCxnSpPr>
        <p:spPr>
          <a:xfrm>
            <a:off x="3200040" y="2666520"/>
            <a:ext cx="22932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28" name="Straight Arrow Connector 16"/>
          <p:cNvCxnSpPr/>
          <p:nvPr/>
        </p:nvCxnSpPr>
        <p:spPr>
          <a:xfrm>
            <a:off x="2666880" y="2666520"/>
            <a:ext cx="15336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29" name="Straight Arrow Connector 18"/>
          <p:cNvCxnSpPr/>
          <p:nvPr/>
        </p:nvCxnSpPr>
        <p:spPr>
          <a:xfrm>
            <a:off x="1218960" y="2971440"/>
            <a:ext cx="108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30" name="Straight Arrow Connector 20"/>
          <p:cNvCxnSpPr/>
          <p:nvPr/>
        </p:nvCxnSpPr>
        <p:spPr>
          <a:xfrm>
            <a:off x="3809520" y="2971800"/>
            <a:ext cx="108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од метаболичких поремећа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у родитељи фенотипски нормални хетерозиготни преносиоци мутираног г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и породице где су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оба родитеља афицирани</a:t>
            </a:r>
            <a:r>
              <a:rPr b="0" lang="sr-CS" sz="2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омозиготи 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а рађају фенотипски нормалну дец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омозиготни албино родитељи могу бити носиоц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х гена са истим фенотипским ефектом (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окоп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, а њихови потомци су хетерозиготи са две различите мутације (два ензима регулишу биосинтезу меланина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AA bb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- a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лбино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   aa BB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- a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лбино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 Aa Bb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-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нормала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нохибридно наслеђивањ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ње наслеђивања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једне особин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        AA x a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F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       A, a, A,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2     AA, Aa, Aa, a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3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: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   (два различита фенотип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:  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: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   (три различита генотип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лбинизам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4" name="Picture 8" descr="albinism"/>
          <p:cNvPicPr/>
          <p:nvPr/>
        </p:nvPicPr>
        <p:blipFill>
          <a:blip r:embed="rId1"/>
          <a:stretch/>
        </p:blipFill>
        <p:spPr>
          <a:xfrm>
            <a:off x="0" y="2828880"/>
            <a:ext cx="4572000" cy="40291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Albino%2520Animals%2520White%252016"/>
          <p:cNvPicPr/>
          <p:nvPr/>
        </p:nvPicPr>
        <p:blipFill>
          <a:blip r:embed="rId2"/>
          <a:stretch/>
        </p:blipFill>
        <p:spPr>
          <a:xfrm>
            <a:off x="7338960" y="4656240"/>
            <a:ext cx="1805040" cy="2201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4" descr="albinokids"/>
          <p:cNvPicPr/>
          <p:nvPr/>
        </p:nvPicPr>
        <p:blipFill>
          <a:blip r:embed="rId3"/>
          <a:stretch/>
        </p:blipFill>
        <p:spPr>
          <a:xfrm>
            <a:off x="4902120" y="0"/>
            <a:ext cx="4241880" cy="4648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Go to fullsize image"/>
          <p:cNvPicPr/>
          <p:nvPr/>
        </p:nvPicPr>
        <p:blipFill>
          <a:blip r:embed="rId4"/>
          <a:stretch/>
        </p:blipFill>
        <p:spPr>
          <a:xfrm>
            <a:off x="4724280" y="4800600"/>
            <a:ext cx="25146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лично је и код хипотироидног кретенизм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бити последица различитих генских мут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за биосинтезу тирон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за агенезу тироиде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идни кретенизам може да буде условљен и недостатком јода -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фенокоп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енилкетонурија</a:t>
            </a:r>
            <a:r>
              <a:rPr b="0" lang="sr-Latn-CS" sz="24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такође да се испољи као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фенокопија</a:t>
            </a:r>
            <a:r>
              <a:rPr b="0" lang="sr-CS" sz="2400" spc="-1" strike="noStrike">
                <a:solidFill>
                  <a:srgbClr val="c121b6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код трудница са фенилкетонуријом фенилаланин прелазипреко плаценте у крвоток плода и изазива оштећењ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Насле</a:t>
            </a:r>
            <a:r>
              <a:rPr b="1" lang="sr-CS" sz="3200" spc="-1" strike="noStrike">
                <a:solidFill>
                  <a:srgbClr val="c00000"/>
                </a:solidFill>
                <a:latin typeface="Arial"/>
                <a:ea typeface="Arial"/>
              </a:rPr>
              <a:t>ђ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ивање ве</a:t>
            </a:r>
            <a:r>
              <a:rPr b="1" lang="sr-Latn-CS" sz="3200" spc="-1" strike="noStrike">
                <a:solidFill>
                  <a:srgbClr val="c00000"/>
                </a:solidFill>
                <a:latin typeface="Arial"/>
                <a:ea typeface="Arial"/>
              </a:rPr>
              <a:t>зано за полне хромозоме</a:t>
            </a:r>
            <a:br>
              <a:rPr sz="3200"/>
            </a:br>
            <a:r>
              <a:rPr b="1" lang="sr-Latn-CS" sz="3200" spc="-1" strike="noStrike">
                <a:solidFill>
                  <a:srgbClr val="c00000"/>
                </a:solidFill>
                <a:latin typeface="Arial"/>
                <a:ea typeface="Arial"/>
              </a:rPr>
              <a:t>-за X и за 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8600" y="1935000"/>
            <a:ext cx="868680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сле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ђ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вање везано за </a:t>
            </a:r>
            <a:r>
              <a:rPr b="1" lang="sr-Latn-CS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X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хромоз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оже да буде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доминантно и рецесивно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А)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Доминантно везано за X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овољна је мутација гена на једном Х хромозому па да буде испољен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олестан отац своју мутацију преноси једино свим својим ћеркама, а болесна мајка и ћеркама и синовима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бољевају мушкарци и жене, али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2 x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чешће ж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е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етерозиготне жене имају фенотип који може да варира од нормалног до афицираног, зависно од инактивације 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ахитис резистентан на витамин 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X-linkedDominantOnly1"/>
          <p:cNvPicPr/>
          <p:nvPr/>
        </p:nvPicPr>
        <p:blipFill>
          <a:blip r:embed="rId1"/>
          <a:srcRect l="0" t="19229" r="0" b="0"/>
          <a:stretch/>
        </p:blipFill>
        <p:spPr>
          <a:xfrm>
            <a:off x="782640" y="2438280"/>
            <a:ext cx="4246560" cy="3657600"/>
          </a:xfrm>
          <a:prstGeom prst="rect">
            <a:avLst/>
          </a:prstGeom>
          <a:ln w="0">
            <a:noFill/>
          </a:ln>
        </p:spPr>
      </p:pic>
      <p:sp>
        <p:nvSpPr>
          <p:cNvPr id="343" name="Rounded Rectangle 2"/>
          <p:cNvSpPr/>
          <p:nvPr/>
        </p:nvSpPr>
        <p:spPr>
          <a:xfrm>
            <a:off x="914400" y="762120"/>
            <a:ext cx="754380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ословно стабло и карактеристик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 везано доминантног наслеђ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ounded Rectangle 3"/>
          <p:cNvSpPr/>
          <p:nvPr/>
        </p:nvSpPr>
        <p:spPr>
          <a:xfrm>
            <a:off x="5486400" y="1828800"/>
            <a:ext cx="3200400" cy="480060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4800600"/>
              <a:gd name="textAreaBottom" fmla="*/ 4644360 h 4800600"/>
            </a:gdLst>
            <a:ahLst/>
            <a:rect l="textAreaLeft" t="textAreaTop" r="textAreaRight" b="textAreaBottom"/>
            <a:pathLst>
              <a:path w="21600" h="32399">
                <a:moveTo>
                  <a:pt x="3600" y="0"/>
                </a:moveTo>
                <a:arcTo wR="3600" hR="3600" stAng="16200000" swAng="-5400000"/>
                <a:lnTo>
                  <a:pt x="0" y="28799"/>
                </a:lnTo>
                <a:arcTo wR="3600" hR="3600" stAng="10800000" swAng="-5400000"/>
                <a:lnTo>
                  <a:pt x="18000" y="32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не су  чешће афициране од 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ан отац преноси мутацију једино ћер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на мајка преноси своју мутацију и ћеркама и син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 се преноси вертикално у родословном стаб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Рахити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6" name="Picture 3" descr="xbeine"/>
          <p:cNvPicPr/>
          <p:nvPr/>
        </p:nvPicPr>
        <p:blipFill>
          <a:blip r:embed="rId1"/>
          <a:stretch/>
        </p:blipFill>
        <p:spPr>
          <a:xfrm>
            <a:off x="3048120" y="1600200"/>
            <a:ext cx="3254400" cy="40384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rachitis"/>
          <p:cNvPicPr/>
          <p:nvPr/>
        </p:nvPicPr>
        <p:blipFill>
          <a:blip r:embed="rId2"/>
          <a:stretch/>
        </p:blipFill>
        <p:spPr>
          <a:xfrm>
            <a:off x="304920" y="1600200"/>
            <a:ext cx="2666880" cy="4000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obeine"/>
          <p:cNvPicPr/>
          <p:nvPr/>
        </p:nvPicPr>
        <p:blipFill>
          <a:blip r:embed="rId3"/>
          <a:stretch/>
        </p:blipFill>
        <p:spPr>
          <a:xfrm>
            <a:off x="6373800" y="1600200"/>
            <a:ext cx="27702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Б) Рецесивно везано за 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т се преноси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мајки на сино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а мајке су најчешће фенотипски здрави преносиоци мутаци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X-здрава, X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-преносилац, X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болес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же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sr-Latn-CS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Y-болестан мушкара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X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 x X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  X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X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RS" sz="2000" spc="-1" strike="noStrike">
                <a:solidFill>
                  <a:srgbClr val="c00000"/>
                </a:solidFill>
                <a:latin typeface="Arial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X, X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  <a:ea typeface="Arial"/>
              </a:rPr>
              <a:t>преносилац        </a:t>
            </a:r>
            <a:r>
              <a:rPr b="1" lang="sr-RS" sz="1400" spc="-1" strike="noStrike">
                <a:solidFill>
                  <a:srgbClr val="c00000"/>
                </a:solidFill>
                <a:latin typeface="Arial"/>
                <a:ea typeface="Arial"/>
              </a:rPr>
              <a:t>болестан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здрав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роватноћа за добијање рецесивног хомозигота се повећава склапањем бракова у сродств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лтонизам, хемофилија, синдром тестикуларне феминизације, Дишенова мишићна дистрофија, недостатак G6PD, синдром фра 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Image"/>
          <p:cNvPicPr/>
          <p:nvPr/>
        </p:nvPicPr>
        <p:blipFill>
          <a:blip r:embed="rId1">
            <a:grayscl/>
          </a:blip>
          <a:srcRect l="0" t="0" r="0" b="5313"/>
          <a:stretch/>
        </p:blipFill>
        <p:spPr>
          <a:xfrm>
            <a:off x="762120" y="2209680"/>
            <a:ext cx="4114800" cy="3733920"/>
          </a:xfrm>
          <a:prstGeom prst="rect">
            <a:avLst/>
          </a:prstGeom>
          <a:ln w="0">
            <a:noFill/>
          </a:ln>
        </p:spPr>
      </p:pic>
      <p:sp>
        <p:nvSpPr>
          <p:cNvPr id="352" name="Rounded Rectangle 2"/>
          <p:cNvSpPr/>
          <p:nvPr/>
        </p:nvSpPr>
        <p:spPr>
          <a:xfrm>
            <a:off x="838080" y="914400"/>
            <a:ext cx="70866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ословно стабло и карактеристике Х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езано рецесивног наслеђ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ounded Rectangle 3"/>
          <p:cNvSpPr/>
          <p:nvPr/>
        </p:nvSpPr>
        <p:spPr>
          <a:xfrm>
            <a:off x="5486400" y="1905120"/>
            <a:ext cx="3124080" cy="495288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4952880"/>
              <a:gd name="textAreaBottom" fmla="*/ 4800600 h 4952880"/>
            </a:gdLst>
            <a:ahLst/>
            <a:rect l="textAreaLeft" t="textAreaTop" r="textAreaRight" b="textAreaBottom"/>
            <a:pathLst>
              <a:path w="21600" h="34243">
                <a:moveTo>
                  <a:pt x="3600" y="0"/>
                </a:moveTo>
                <a:arcTo wR="3600" hR="3600" stAng="16200000" swAng="-5400000"/>
                <a:lnTo>
                  <a:pt x="0" y="30643"/>
                </a:lnTo>
                <a:arcTo wR="3600" hR="3600" stAng="10800000" swAng="-5400000"/>
                <a:lnTo>
                  <a:pt x="18000" y="342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 су чешће афицирани , однос међу половима 3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жене су фенотипски здрави преносиоци мутације (хетерозиготни носиоц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јка преносилац, преноси  мутацију и ћеркама и синовима, али ће само синови бити болес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ишенова мишићна дистроф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952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стаје услед мутације гена за дистрофин, на р краку Х хромозо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Ð ÐµÐ·ÑÐ»ÑÐ°Ñ ÑÐ»Ð¸ÐºÐ° Ð·Ð° duchenne muscular dystrophy"/>
          <p:cNvPicPr/>
          <p:nvPr/>
        </p:nvPicPr>
        <p:blipFill>
          <a:blip r:embed="rId1"/>
          <a:stretch/>
        </p:blipFill>
        <p:spPr>
          <a:xfrm>
            <a:off x="4876920" y="2286000"/>
            <a:ext cx="42670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слеђивање везано за </a:t>
            </a:r>
            <a:r>
              <a:rPr b="1" lang="sr-C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Y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хромозом-</a:t>
            </a:r>
            <a:br>
              <a:rPr sz="2800"/>
            </a:b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оландрично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Y хромозом има мал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оматских ге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ан од њих је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за длакавост ушне шкољке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ливаће опне између прстију ногу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се пренос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скључиво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са очев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на синов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Picture 10" descr="gen17"/>
          <p:cNvPicPr/>
          <p:nvPr/>
        </p:nvPicPr>
        <p:blipFill>
          <a:blip r:embed="rId1"/>
          <a:stretch/>
        </p:blipFill>
        <p:spPr>
          <a:xfrm>
            <a:off x="5410080" y="1989000"/>
            <a:ext cx="373392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YLinkedOnly1"/>
          <p:cNvPicPr/>
          <p:nvPr/>
        </p:nvPicPr>
        <p:blipFill>
          <a:blip r:embed="rId1"/>
          <a:srcRect l="0" t="14173" r="0" b="0"/>
          <a:stretch/>
        </p:blipFill>
        <p:spPr>
          <a:xfrm>
            <a:off x="609480" y="2133720"/>
            <a:ext cx="480060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Rounded Rectangle 2"/>
          <p:cNvSpPr/>
          <p:nvPr/>
        </p:nvSpPr>
        <p:spPr>
          <a:xfrm>
            <a:off x="1066680" y="914400"/>
            <a:ext cx="7391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ословно стабло и карактеристике холандричн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 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слеђивањ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ounded Rectangle 3"/>
          <p:cNvSpPr/>
          <p:nvPr/>
        </p:nvSpPr>
        <p:spPr>
          <a:xfrm>
            <a:off x="5791320" y="2743200"/>
            <a:ext cx="2743200" cy="289548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895480"/>
              <a:gd name="textAreaBottom" fmla="*/ 2761560 h 2895480"/>
            </a:gdLst>
            <a:ahLst/>
            <a:rect l="textAreaLeft" t="textAreaTop" r="textAreaRight" b="textAreaBottom"/>
            <a:pathLst>
              <a:path w="21600" h="22799">
                <a:moveTo>
                  <a:pt x="3600" y="0"/>
                </a:moveTo>
                <a:arcTo wR="3600" hR="3600" stAng="16200000" swAng="-5400000"/>
                <a:lnTo>
                  <a:pt x="0" y="19199"/>
                </a:lnTo>
                <a:arcTo wR="3600" hR="3600" stAng="10800000" swAng="-5400000"/>
                <a:lnTo>
                  <a:pt x="18000" y="227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нот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ки носиоци мутације су само мушкар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тација се  увек преноси са оца на све си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ихибридно насле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вањ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34640"/>
            <a:ext cx="8381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 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с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вањ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две особ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е су детерминисан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енима на р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и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тим хромо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м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    AABB  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ab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F1  AaB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b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, AaBb, AaBb, AaB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sr-CS" sz="3200" spc="-1" strike="noStrike">
                <a:solidFill>
                  <a:srgbClr val="c00000"/>
                </a:solidFill>
                <a:latin typeface="Arial"/>
                <a:ea typeface="Arial"/>
              </a:rPr>
              <a:t>Наслеђивање под утицајем пол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240" y="19807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Експресија појединих гена на аутозомним хромозомима зависи од полних хорм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пр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за ћелав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 би се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ћелавос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спољила код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же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требно је да је ген у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омозиготном с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њу, а код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ушкара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казује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 доминантног гена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роватно због присуства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дрог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а м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у неалелним геним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3200" spc="-1" strike="noStrike">
                <a:solidFill>
                  <a:srgbClr val="c00000"/>
                </a:solidFill>
                <a:latin typeface="Arial"/>
                <a:ea typeface="Arial"/>
              </a:rPr>
              <a:t>Полигениј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ва да је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једна особина детерминисана већим бројем г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гено су детерминисана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квантитативна својст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нтеракција м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ђ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 неалелним генима је </a:t>
            </a:r>
            <a:r>
              <a:rPr b="1" lang="sr-Latn-CS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еписта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дефиниција епистазе у ширем смислу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А)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Комплементар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појава да се особина испољава само уз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адејство два или више доминантни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лела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различитих г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AABb, AaBb, AABB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 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чин се нас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је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лувонемост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људ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омплементарност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глувонемос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        AABB      x      aab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F1    AaBb  x   AaBb, AaBb, AaB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F2    AABB      A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b    AaBB     AaB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AABb      </a:t>
            </a:r>
            <a:r>
              <a:rPr b="1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AAbb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AaBb      </a:t>
            </a:r>
            <a:r>
              <a:rPr b="1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Aab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AaBB      AaBb     </a:t>
            </a:r>
            <a:r>
              <a:rPr b="1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aaBB      aaB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AaBb     </a:t>
            </a:r>
            <a:r>
              <a:rPr b="0" lang="sr-Latn-CS" sz="26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1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Aabb     aaBb       aab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9:7</a:t>
            </a:r>
            <a:r>
              <a:rPr b="1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              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704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писта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з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а у у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м смисл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хиби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ејства једног гена дејством другог г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2590560"/>
            <a:ext cx="8991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пистатички ге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 да буд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минант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сив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глувонемости сваки </a:t>
            </a:r>
            <a:r>
              <a:rPr b="1" i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рецесивни хомозиготни пар алела је епистатичан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спречава дејство доминантног гена – особе генотип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A</a:t>
            </a:r>
            <a:r>
              <a:rPr b="1" lang="sr-Latn-CS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bb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a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B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су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глувоне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Б) Адитивна полиген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појава сабирања –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кумулације дејства доминантних але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Што је више доминантних алела гена особина је јаче испољ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Н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. нас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вањ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је к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љу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Наслеђивање боје кож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3352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       AABB   x    aab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1     AaBb x  AaBb  ..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: 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: 4 : 6 : 4 :1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пет фенотипских клас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6" name="Picture 5" descr="https://encrypted-tbn2.gstatic.com/images?q=tbn:ANd9GcRym2NSzMpZnLx5FCsMIJikgSjvhuk8EIUmj-4cTEBifoaPjwTe"/>
          <p:cNvPicPr/>
          <p:nvPr/>
        </p:nvPicPr>
        <p:blipFill>
          <a:blip r:embed="rId1"/>
          <a:stretch/>
        </p:blipFill>
        <p:spPr>
          <a:xfrm>
            <a:off x="4952880" y="2666880"/>
            <a:ext cx="3276720" cy="2144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http://click4biology.info/c4b/10/images/10.3/melanin.gif"/>
          <p:cNvPicPr/>
          <p:nvPr/>
        </p:nvPicPr>
        <p:blipFill>
          <a:blip r:embed="rId2"/>
          <a:stretch/>
        </p:blipFill>
        <p:spPr>
          <a:xfrm>
            <a:off x="1066680" y="3301920"/>
            <a:ext cx="27432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што се полигено дејство испољава уз садејство фактора средине –</a:t>
            </a:r>
            <a:r>
              <a:rPr b="1" lang="sr-Latn-CS" sz="24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мултифакторијално насле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ђ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ивање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2544840"/>
            <a:ext cx="40384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орм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особи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телесна вис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тежи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интелиген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8320" y="2544840"/>
            <a:ext cx="449568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Боле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тип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кардиоваскуларне боле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артеријска хипертенз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хиперхолестеролем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тиреотоксикоза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Емпиријски ризик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76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наслеђују се по Менделовим правил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шко их је пратити и предвидети њихово наслеђивање у потомств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рачунава се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емпиријски ризик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-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ек на основу заступљености у популацији (није увек тачан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зик је повећан ак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и  више од једног оболелог члана порорд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 тешке форме или рани почетак боле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оболела  особа оног пола који ређе обоље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и  косангвинитет у породици (брак у сродству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лејотропни ген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Појава да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један г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терми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ше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више особ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: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емија српастих ћел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– штетни ефекти различите функције болесника (костну срж, крвне судове, бубреге, мишиће, мозак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n der Hoevov sy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steogenezis imperfekt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лаве склере, глувоћа и крхке к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F1   AaBb  x AaBb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583704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с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фенотипских клас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дихибридном наслеђивању је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9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:3:3: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990720" y="1447920"/>
          <a:ext cx="5181480" cy="4190760"/>
        </p:xfrm>
        <a:graphic>
          <a:graphicData uri="http://schemas.openxmlformats.org/drawingml/2006/table">
            <a:tbl>
              <a:tblPr/>
              <a:tblGrid>
                <a:gridCol w="712800"/>
                <a:gridCol w="1136520"/>
                <a:gridCol w="1112760"/>
                <a:gridCol w="1138320"/>
                <a:gridCol w="10810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Rectangle 3"/>
          <p:cNvSpPr/>
          <p:nvPr/>
        </p:nvSpPr>
        <p:spPr>
          <a:xfrm>
            <a:off x="152280" y="838080"/>
            <a:ext cx="99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6248520" y="4800600"/>
            <a:ext cx="42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- 4 различита фено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- 9 различитих генотип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CS" sz="3200" spc="-1" strike="noStrike">
                <a:solidFill>
                  <a:srgbClr val="c00000"/>
                </a:solidFill>
                <a:latin typeface="Arial"/>
                <a:ea typeface="Arial"/>
              </a:rPr>
              <a:t>Везани гени-корелативно наслеђивањ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Гени који се налазе на истом хромозому и детерминишу везана својства називају се </a:t>
            </a:r>
            <a:r>
              <a:rPr b="1" i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везани гени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Особине које детерминишу везани гени, наслеђују се </a:t>
            </a:r>
            <a:r>
              <a:rPr b="1" i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корелативно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о јест </a:t>
            </a:r>
            <a:r>
              <a:rPr b="1" i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веза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Везани гени могу да буду раздвојени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-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м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пр.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за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BO систем крвних груп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ген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синдро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кти-чашиц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 хром. бр. 9 на удаљености од 1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,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и за далтониза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хемофили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 X хромозому -12 c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слеђивање синдрома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P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2437920"/>
            <a:ext cx="4191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NP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    AO  x  O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r-Latn-CS" sz="1400" spc="-1" strike="noStrike">
                <a:solidFill>
                  <a:srgbClr val="c00000"/>
                </a:solidFill>
                <a:latin typeface="Arial"/>
                <a:ea typeface="Arial"/>
              </a:rPr>
              <a:t>N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N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nn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n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F1 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AO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AO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OO, OO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50%      50%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ије се десио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rossing ov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8320" y="24379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N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n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    AO  x   OO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r-Latn-CS" sz="1400" spc="-1" strike="noStrike">
                <a:solidFill>
                  <a:srgbClr val="c00000"/>
                </a:solidFill>
                <a:latin typeface="Arial"/>
                <a:ea typeface="Arial"/>
              </a:rPr>
              <a:t>N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nn        </a:t>
            </a:r>
            <a:r>
              <a:rPr b="1" lang="sr-Latn-CS" sz="1400" spc="-1" strike="noStrike">
                <a:solidFill>
                  <a:srgbClr val="c00000"/>
                </a:solidFill>
                <a:latin typeface="Arial"/>
                <a:ea typeface="Arial"/>
              </a:rPr>
              <a:t>N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n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F1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AO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AO,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OO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O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40% 10% 10% 40%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десио се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rossing ov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941088-1422862-947391-1767885"/>
          <p:cNvPicPr/>
          <p:nvPr/>
        </p:nvPicPr>
        <p:blipFill>
          <a:blip r:embed="rId1"/>
          <a:srcRect l="8828" t="6059" r="0" b="3029"/>
          <a:stretch/>
        </p:blipFill>
        <p:spPr>
          <a:xfrm>
            <a:off x="152280" y="274320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91" name="Rounded Rectangle 11"/>
          <p:cNvSpPr/>
          <p:nvPr/>
        </p:nvSpPr>
        <p:spPr>
          <a:xfrm>
            <a:off x="990720" y="762120"/>
            <a:ext cx="693396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ндром нокти чашица (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P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http://binarystore.wiley.com/store/10.1002/9780470015902.a0024340/asset/image_n/nfgz001.gif?v=1&amp;s=dcb66fea5ded377974d8bad131abc32759090770"/>
          <p:cNvPicPr/>
          <p:nvPr/>
        </p:nvPicPr>
        <p:blipFill>
          <a:blip r:embed="rId2"/>
          <a:srcRect l="0" t="0" r="0" b="55976"/>
          <a:stretch/>
        </p:blipFill>
        <p:spPr>
          <a:xfrm>
            <a:off x="2590920" y="2743200"/>
            <a:ext cx="6448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РОДОСЛОВНА (ГЕНЕАЛОШКА)</a:t>
            </a:r>
            <a:br>
              <a:rPr sz="4800"/>
            </a:b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СТАБЛ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 хуманој генетиц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ришћење класичних метода није могуће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угачак период генерациј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и број потомак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огуће је вршити наменска укрштања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049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одређивање типа наслеђивања неких аномалија или болести усвојен ј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ЕТОД РОДОСЛОВНИХ СТАБ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а имати податке за што већи број потомака (за 7 генерациј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и чланови једне породице се означавају симбол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Симболи за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цртање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родословног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Arial"/>
                <a:ea typeface="Arial"/>
              </a:rPr>
              <a:t>стабла</a:t>
            </a:r>
            <a:r>
              <a:rPr b="0" lang="sr-CS" sz="27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8" name="Picture 3" descr="03_13"/>
          <p:cNvPicPr/>
          <p:nvPr/>
        </p:nvPicPr>
        <p:blipFill>
          <a:blip r:embed="rId1"/>
          <a:srcRect l="0" t="0" r="0" b="3446"/>
          <a:stretch/>
        </p:blipFill>
        <p:spPr>
          <a:xfrm>
            <a:off x="3657600" y="838080"/>
            <a:ext cx="4419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0000"/>
                </a:solidFill>
                <a:latin typeface="Arial"/>
                <a:ea typeface="Arial"/>
              </a:rPr>
              <a:t>1. Однос оболелих женских и мушких чланова родословног стабл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је однос оболелих мушких и женских чланова једнак (1 : 1)  = 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 је на аутозомном хромоз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однос оболелих мушких и женских чланова није једнак (3 : 1)  =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 је на полном хромоз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3316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0000"/>
                </a:solidFill>
                <a:latin typeface="Arial"/>
                <a:ea typeface="Arial"/>
              </a:rPr>
              <a:t>2. Да ли се болест јавља у свакој генерацији или прескаче генерације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се болест јавља у свакој генерацији -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наслеђивање је доминант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болест прескаче генерације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      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наслеђивање је рецесив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за израчунавање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отиповa је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3</a:t>
            </a:r>
            <a:r>
              <a:rPr b="1" lang="sr-Latn-CS" sz="24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фенотипова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де ј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рој особина које се пра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4" descr="http://image.slidesharecdn.com/mehanizminasledjivanja3a-101209034803-phpapp01/95/slide-71-728.jpg?1291888820"/>
          <p:cNvPicPr/>
          <p:nvPr/>
        </p:nvPicPr>
        <p:blipFill>
          <a:blip r:embed="rId1"/>
          <a:stretch/>
        </p:blipFill>
        <p:spPr>
          <a:xfrm>
            <a:off x="822240" y="2651040"/>
            <a:ext cx="75787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ратно укрштањ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20570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 укрштање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хетерозиготних потомака са рецесивним хомозигот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повратно укрштање у дихибридном наслеђивању однос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енотипов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енотипо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у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генерацији 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:1:1: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1       AaBb  x  aab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      AB, Ab, aB, ab   x  a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AaBb, Aabb, aaBb, aab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    :   1    :    1    :    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олихибридно насле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вањ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560" y="1752120"/>
            <a:ext cx="838188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ти 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насле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ђ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ивање већег броја особ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ри чему је свака од њих детерминисана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ом на различитом хромозо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хибридно нас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     AABBCC   x   aabbc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F1   AaBbCc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 AaBbCc, AaBbCc, AaBbC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сви потомци су исти по генотипу и фенотипу-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мају испољена 3 доминантна својст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једна фенотипска клас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астављање наследних фактора у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рихибридном наслеђивањ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4" descr="03_09"/>
          <p:cNvPicPr/>
          <p:nvPr/>
        </p:nvPicPr>
        <p:blipFill>
          <a:blip r:embed="rId1"/>
          <a:srcRect l="0" t="48893" r="0" b="3404"/>
          <a:stretch/>
        </p:blipFill>
        <p:spPr>
          <a:xfrm>
            <a:off x="1752480" y="2209680"/>
            <a:ext cx="5181840" cy="26672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0" y="533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Број гамета се израчунава помоћу формул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n је број хетерозиготних комбинација  генских алела  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9:17:16Z</dcterms:created>
  <dc:creator>Olivera</dc:creator>
  <dc:description/>
  <dc:language>en-US</dc:language>
  <cp:lastModifiedBy>.</cp:lastModifiedBy>
  <dcterms:modified xsi:type="dcterms:W3CDTF">2019-01-14T20:10:45Z</dcterms:modified>
  <cp:revision>148</cp:revision>
  <dc:subject/>
  <dc:title>Tipovi nasleđivanja</dc:title>
</cp:coreProperties>
</file>